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C13E-CCD6-46D1-8C35-135B0E11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994-CA7C-4E84-B1A1-0D0B8109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440-CB55-4586-96CC-80CE26C2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DEC0-8A43-4013-B022-9ED0DAFC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48D7-D83F-4AA0-B373-335154AD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C1D7-91D9-478F-99C8-553F9593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224F-225E-4A25-81B5-64352284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A225-DE99-44ED-8348-439B297D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553A-1CC2-43AA-A5FA-E1F7332B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52F1-0C8E-4DEB-AF70-8F137FFD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85FD-416A-4032-A6FC-7740F593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76D-038B-4E23-95A0-B761AB36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C85E-E6D8-4136-A11D-C59B6119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57ED-2687-4E8B-914B-EA42A139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F0F3-701F-4FC7-9694-C4F009E6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56CC-0109-4829-9EDB-F1847574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2101-BE05-4AFF-B36E-D522943D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1B9-F45A-4E9C-982E-CE6805BE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E606-790F-4052-9681-9F8349A2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FA73-F8A0-43DE-8032-4BD04134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712C-7A42-4921-A308-B52E7A38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F98-AEF7-4701-BD55-1125E45E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04A1-A2BD-40E9-AC30-6416AA51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B82E-3146-41ED-8804-301D32DB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3C93-8681-4E6E-BC69-74773992004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9E14-0CD6-4991-8B92-7E6E4A603EB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762120" y="304920"/>
            <a:ext cx="6019560" cy="609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lectronic 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levision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"/>
          <p:cNvSpPr/>
          <p:nvPr/>
        </p:nvSpPr>
        <p:spPr>
          <a:xfrm>
            <a:off x="6095880" y="45324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Kayla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eptember 27,20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riod 7</a:t>
            </a:r>
            <a:r>
              <a:rPr b="0" lang="en-US" sz="1800" spc="-1" strike="noStrike" baseline="30000">
                <a:solidFill>
                  <a:srgbClr val="ffcc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mputer # 3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514600" y="64911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43200" y="5791320"/>
            <a:ext cx="4495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usic: Free Play Music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</a:rPr>
              <a:t>Dance Pop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, 10/4/10, 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www.freeplaymusic.com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vention: Electronic Televi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invention sped in television imaging to high definition in London 1936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invention was used in times of World war 2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was broadcasted in the US. In 1941 with color transmission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ventor: Philo T. Farnsworth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hilo Farnsworth was born in Utah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e made the first all- electronic television at age 15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e demonstrated it in San Francisco and many more plac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e never abandon his dream of making the electric television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arnsworth was interested in molecular theory, motors, and novel devic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arnsworth died from pneumonia before he completed his fusion work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en he died his TV sets sold about 100 times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Farnsworth"/>
          <p:cNvPicPr/>
          <p:nvPr/>
        </p:nvPicPr>
        <p:blipFill>
          <a:blip r:embed="rId1"/>
          <a:srcRect l="0" t="0" r="71160" b="0"/>
          <a:stretch/>
        </p:blipFill>
        <p:spPr>
          <a:xfrm>
            <a:off x="0" y="0"/>
            <a:ext cx="2590920" cy="28954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Farnsworth"/>
          <p:cNvPicPr/>
          <p:nvPr/>
        </p:nvPicPr>
        <p:blipFill>
          <a:blip r:embed="rId2"/>
          <a:srcRect l="27349" t="0" r="0" b="0"/>
          <a:stretch/>
        </p:blipFill>
        <p:spPr>
          <a:xfrm>
            <a:off x="2590920" y="2666880"/>
            <a:ext cx="6553080" cy="28544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304920" y="56386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Philo Farnsworth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, September 29, 2010 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http://web.mit.edu/invent/iow/farnsworth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09Z</dcterms:created>
  <dc:creator>install</dc:creator>
  <dc:description/>
  <dc:language>en-US</dc:language>
  <cp:lastModifiedBy>install</cp:lastModifiedBy>
  <dcterms:modified xsi:type="dcterms:W3CDTF">2010-10-13T17:50:54Z</dcterms:modified>
  <cp:revision>11</cp:revision>
  <dc:subject/>
  <dc:title>Slide 1</dc:title>
</cp:coreProperties>
</file>